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1BF7-EC70-459D-A30B-B0B34886A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A95-A544-4EC5-9D45-E6B6AC27D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C706-B899-4A4B-866C-4376CA4E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F0F6-5AA5-409E-8D56-3D6B0578A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DCC-2449-4727-819C-00E047C5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F18D-27BF-4812-AC2B-E441BFAC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B1C-9479-4DAA-B2D5-CBFFE8FD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551-D231-434D-B83A-DBEE7AA6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BE7E-2C78-43C0-9BC7-5ADEA99C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8BD-3FA3-4DC2-A22C-07A398E6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31B-D5D6-4513-BD84-0E7F5FB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21A-0BC3-49CA-B6D5-2B585EE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520-28BE-4917-B905-4AB756A4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1658-0E29-410F-9C63-7BFC5B12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85A-6106-47DC-A107-2373E90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EF64-47D0-4CE6-A4BD-D5ED106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546-6F60-4C42-AFE0-F52AAB5D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981D-F4D2-491F-916A-1D178F7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D85-1175-4521-A036-FE9CE05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2EFC-493D-4F31-9379-B27FF84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F6E-147E-48D1-B8B2-2D12E4DB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D297-4EFE-494C-9801-B0A90C3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80C-35FB-4B50-B35E-4A1B110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07E-5ACC-47D2-A57A-B1B6E0B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B592-5F8F-4746-86EC-55A4B634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9FC-9D35-4B8C-9042-C4AA656E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CAD7-41FC-4D63-849D-F8973C4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E57A-A939-4AE4-A8B6-57F4A0A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2522-C7EC-4FD6-A760-DCB5D3A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3785-0FA4-4229-A928-111F34B4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4268-0B02-4596-A0D3-8AF4AC4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6DC-5594-4697-AA41-EADFF4ED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F052-AE64-4EEE-84B7-9F31F6A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8DD2-4681-4488-81F4-9B0E1FA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2978-5DA8-425F-BF77-4FB8F8A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BC7C-B1C3-4D38-8A21-E966552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9262-3079-48AF-B1D9-2215B9B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FC86-4D0C-4DE2-95CD-F9604450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4486-651B-40E6-A549-B0AF9CAB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0CEA-9437-4340-BC24-D2A5861B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E8A5-ABBA-46E5-B740-5B5A7A4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6B2F-7D8B-4929-8141-050348A0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C4C-B331-4FBF-A36D-ADD4A83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A359-66EB-4821-99C0-39BD2FA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6FCD-4C90-4DFD-82A7-8655FCA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9267-F6C4-4E4F-8A18-ADDD60EE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63E2-4617-4E18-B836-327C99D1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3C7C-73C3-4AC0-A2B8-62EE338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4285-FC04-49C9-83EE-A14EC733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3BB3-A2AB-41C4-9C64-690E464F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9B96-01E3-4C66-A81D-1AEB0BCD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EEDD-81F5-437D-B879-5366C4F9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808-9F45-4F9C-AA76-192CE3C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907-B59F-4792-B6F7-3EFB2E9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EF2-C16E-4A49-8EBA-1D0B1EE2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176-CBDE-4DBB-82AD-6A371B8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0B1-FF0C-4BE5-8769-0AB2E20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EC4-86DF-4BB2-B112-8708EF293D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96E-3E9C-4B98-8E5F-ADD45C499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F35D-0881-4F30-8213-102CA9345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041C-020B-49CC-AD52-40BC5EC3FD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865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Group 80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9156960" cy="3114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0" y="3276720"/>
            <a:ext cx="9144000" cy="3124080"/>
            <a:chOff x="0" y="3276720"/>
            <a:chExt cx="9144000" cy="3124080"/>
          </a:xfrm>
        </p:grpSpPr>
        <p:sp>
          <p:nvSpPr>
            <p:cNvPr id="173" name="Wave 51"/>
            <p:cNvSpPr/>
            <p:nvPr/>
          </p:nvSpPr>
          <p:spPr>
            <a:xfrm>
              <a:off x="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ave 52"/>
            <p:cNvSpPr/>
            <p:nvPr/>
          </p:nvSpPr>
          <p:spPr>
            <a:xfrm>
              <a:off x="457200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ave 53"/>
          <p:cNvSpPr/>
          <p:nvPr/>
        </p:nvSpPr>
        <p:spPr>
          <a:xfrm>
            <a:off x="0" y="4191120"/>
            <a:ext cx="9144000" cy="3809880"/>
          </a:xfrm>
          <a:custGeom>
            <a:avLst/>
            <a:gdLst>
              <a:gd name="textAreaLeft" fmla="*/ 0 w 9144000"/>
              <a:gd name="textAreaRight" fmla="*/ 9144360 w 914400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7"/>
          <p:cNvSpPr/>
          <p:nvPr/>
        </p:nvSpPr>
        <p:spPr>
          <a:xfrm>
            <a:off x="357120" y="92880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enting the “NET” Generation: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hat makes our kids “cli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Box8"/>
          <p:cNvSpPr/>
          <p:nvPr/>
        </p:nvSpPr>
        <p:spPr>
          <a:xfrm>
            <a:off x="533520" y="3505320"/>
            <a:ext cx="838080" cy="637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answers – well kind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tentBox9"/>
          <p:cNvSpPr/>
          <p:nvPr/>
        </p:nvSpPr>
        <p:spPr>
          <a:xfrm>
            <a:off x="4572000" y="3809880"/>
            <a:ext cx="942840" cy="7192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k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Box10"/>
          <p:cNvSpPr/>
          <p:nvPr/>
        </p:nvSpPr>
        <p:spPr>
          <a:xfrm>
            <a:off x="6114960" y="4038480"/>
            <a:ext cx="895320" cy="682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omework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tentBox11"/>
          <p:cNvSpPr/>
          <p:nvPr/>
        </p:nvSpPr>
        <p:spPr>
          <a:xfrm>
            <a:off x="7620120" y="4191120"/>
            <a:ext cx="790560" cy="60156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nused Section Sp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Box1"/>
          <p:cNvSpPr/>
          <p:nvPr/>
        </p:nvSpPr>
        <p:spPr>
          <a:xfrm>
            <a:off x="609480" y="2362320"/>
            <a:ext cx="838440" cy="6523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lides before 1st Section Divi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Box4"/>
          <p:cNvSpPr/>
          <p:nvPr/>
        </p:nvSpPr>
        <p:spPr>
          <a:xfrm>
            <a:off x="4267080" y="2895480"/>
            <a:ext cx="533520" cy="4510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UR 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tentBox6"/>
          <p:cNvSpPr/>
          <p:nvPr/>
        </p:nvSpPr>
        <p:spPr>
          <a:xfrm>
            <a:off x="6607080" y="284796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The Places they go and wh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tentBox2"/>
          <p:cNvSpPr/>
          <p:nvPr/>
        </p:nvSpPr>
        <p:spPr>
          <a:xfrm>
            <a:off x="2014560" y="2847960"/>
            <a:ext cx="57636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ome questions to start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5"/>
          <p:cNvSpPr/>
          <p:nvPr/>
        </p:nvSpPr>
        <p:spPr>
          <a:xfrm>
            <a:off x="0" y="1676520"/>
            <a:ext cx="9129600" cy="974520"/>
          </a:xfrm>
          <a:custGeom>
            <a:avLst/>
            <a:gdLst/>
            <a:ahLst/>
            <a:rect l="l" t="t" r="r" b="b"/>
            <a:pathLst>
              <a:path w="9129486" h="974876">
                <a:moveTo>
                  <a:pt x="0" y="592666"/>
                </a:moveTo>
                <a:cubicBezTo>
                  <a:pt x="245533" y="382209"/>
                  <a:pt x="491066" y="171752"/>
                  <a:pt x="1030514" y="229809"/>
                </a:cubicBezTo>
                <a:cubicBezTo>
                  <a:pt x="1569962" y="287866"/>
                  <a:pt x="2559353" y="974876"/>
                  <a:pt x="3236686" y="941009"/>
                </a:cubicBezTo>
                <a:cubicBezTo>
                  <a:pt x="3914019" y="907142"/>
                  <a:pt x="4327676" y="53219"/>
                  <a:pt x="5094514" y="26609"/>
                </a:cubicBezTo>
                <a:cubicBezTo>
                  <a:pt x="5861352" y="0"/>
                  <a:pt x="7165219" y="732971"/>
                  <a:pt x="7837714" y="781352"/>
                </a:cubicBezTo>
                <a:cubicBezTo>
                  <a:pt x="8510209" y="829733"/>
                  <a:pt x="8819847" y="573314"/>
                  <a:pt x="9129486" y="3168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Box7"/>
          <p:cNvSpPr/>
          <p:nvPr/>
        </p:nvSpPr>
        <p:spPr>
          <a:xfrm>
            <a:off x="7772400" y="3076560"/>
            <a:ext cx="860400" cy="7524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More Question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Box3"/>
          <p:cNvSpPr/>
          <p:nvPr/>
        </p:nvSpPr>
        <p:spPr>
          <a:xfrm>
            <a:off x="3124080" y="320040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Inten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Box5"/>
          <p:cNvSpPr/>
          <p:nvPr/>
        </p:nvSpPr>
        <p:spPr>
          <a:xfrm>
            <a:off x="5351400" y="2467080"/>
            <a:ext cx="63648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oday for our k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ave 94"/>
          <p:cNvSpPr/>
          <p:nvPr/>
        </p:nvSpPr>
        <p:spPr>
          <a:xfrm>
            <a:off x="0" y="76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0" y="64771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ave 93"/>
          <p:cNvSpPr/>
          <p:nvPr/>
        </p:nvSpPr>
        <p:spPr>
          <a:xfrm>
            <a:off x="0" y="5791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le we were  busy growing up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ll of the Berlin Wall, and the rise of the Windows 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ing – the dot com 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ourc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2.0 tools (move from passive retrieval of information to creating and sharing knowled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day for our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has always  been only one Ger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as always been admissible in cou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3760" y="76176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FEATUREbeingbatman3"/>
          <p:cNvPicPr/>
          <p:nvPr/>
        </p:nvPicPr>
        <p:blipFill>
          <a:blip r:embed="rId2"/>
          <a:stretch/>
        </p:blipFill>
        <p:spPr>
          <a:xfrm>
            <a:off x="5643720" y="2357280"/>
            <a:ext cx="315252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outgrown faxing as a means of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5" descr="itouch.jpg"/>
          <p:cNvPicPr/>
          <p:nvPr/>
        </p:nvPicPr>
        <p:blipFill>
          <a:blip r:embed="rId1"/>
          <a:stretch/>
        </p:blipFill>
        <p:spPr>
          <a:xfrm>
            <a:off x="4786200" y="4214880"/>
            <a:ext cx="2357640" cy="174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erminator%202"/>
          <p:cNvPicPr/>
          <p:nvPr/>
        </p:nvPicPr>
        <p:blipFill>
          <a:blip r:embed="rId2"/>
          <a:stretch/>
        </p:blipFill>
        <p:spPr>
          <a:xfrm>
            <a:off x="6572160" y="642960"/>
            <a:ext cx="2210040" cy="3340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laces they go and wh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48" name="Picture 8" descr="MCj03126460000[1]"/>
          <p:cNvPicPr/>
          <p:nvPr/>
        </p:nvPicPr>
        <p:blipFill>
          <a:blip r:embed="rId1"/>
          <a:stretch/>
        </p:blipFill>
        <p:spPr>
          <a:xfrm>
            <a:off x="3924360" y="2060640"/>
            <a:ext cx="2071800" cy="21114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4"/>
          <p:cNvSpPr txBox="1"/>
          <p:nvPr/>
        </p:nvSpPr>
        <p:spPr>
          <a:xfrm rot="1010400">
            <a:off x="586728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un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2268360" y="2349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S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WordArt 16"/>
          <p:cNvSpPr txBox="1"/>
          <p:nvPr/>
        </p:nvSpPr>
        <p:spPr>
          <a:xfrm rot="21163800">
            <a:off x="5940000" y="4149720"/>
            <a:ext cx="27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exop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52" name="WordArt 17"/>
          <p:cNvSpPr txBox="1"/>
          <p:nvPr/>
        </p:nvSpPr>
        <p:spPr>
          <a:xfrm rot="21177600">
            <a:off x="539280" y="364464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62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Tub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62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WordArt 18"/>
          <p:cNvSpPr txBox="1"/>
          <p:nvPr/>
        </p:nvSpPr>
        <p:spPr>
          <a:xfrm>
            <a:off x="6227640" y="2924280"/>
            <a:ext cx="223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ceboo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19"/>
          <p:cNvSpPr txBox="1"/>
          <p:nvPr/>
        </p:nvSpPr>
        <p:spPr>
          <a:xfrm>
            <a:off x="3780000" y="907920"/>
            <a:ext cx="1428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m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0"/>
          <p:cNvSpPr txBox="1"/>
          <p:nvPr/>
        </p:nvSpPr>
        <p:spPr>
          <a:xfrm>
            <a:off x="4427640" y="5734080"/>
            <a:ext cx="22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Spa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WordArt 21"/>
          <p:cNvSpPr txBox="1"/>
          <p:nvPr/>
        </p:nvSpPr>
        <p:spPr>
          <a:xfrm>
            <a:off x="3995640" y="4365720"/>
            <a:ext cx="14194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lick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7" name="WordArt 22"/>
          <p:cNvSpPr txBox="1"/>
          <p:nvPr/>
        </p:nvSpPr>
        <p:spPr>
          <a:xfrm rot="21228600">
            <a:off x="755640" y="148392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132000"/>
                </a:gradFill>
                <a:latin typeface="Arial Black"/>
              </a:rPr>
              <a:t>Limewi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132000"/>
              </a:gradFill>
              <a:latin typeface="Arial Black"/>
              <a:ea typeface="Arial Black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835280" y="5300640"/>
            <a:ext cx="1752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g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59" name="Picture 2" descr="http://www.seattlebeerweek.com/images/twitter_logo.png"/>
          <p:cNvPicPr/>
          <p:nvPr/>
        </p:nvPicPr>
        <p:blipFill>
          <a:blip r:embed="rId6"/>
          <a:stretch/>
        </p:blipFill>
        <p:spPr>
          <a:xfrm>
            <a:off x="6261120" y="50007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http://www.retirement-jobs-online.com/images/ebay-logo.jpg"/>
          <p:cNvPicPr/>
          <p:nvPr/>
        </p:nvPicPr>
        <p:blipFill>
          <a:blip r:embed="rId7"/>
          <a:stretch/>
        </p:blipFill>
        <p:spPr>
          <a:xfrm>
            <a:off x="35712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mspmentor.net/wp-content/uploads/2009/02/mspmentor-and-the-var-guy-podcasts-on-itunes.jpg"/>
          <p:cNvPicPr/>
          <p:nvPr/>
        </p:nvPicPr>
        <p:blipFill>
          <a:blip r:embed="rId8"/>
          <a:stretch/>
        </p:blipFill>
        <p:spPr>
          <a:xfrm>
            <a:off x="7358040" y="285840"/>
            <a:ext cx="119232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94" name="Diagram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756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do you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igital Litera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/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ssible Questions for me…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technology should I allow my children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about issues around email; msn; social network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prevent these issues from happen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learn more about tech and the issues surrounding it’s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this help my paren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 for YOU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928800" y="17859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– well kind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questions to st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ted videos or pictur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mselves or their family 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y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85716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OUR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test</cp:lastModifiedBy>
  <dcterms:modified xsi:type="dcterms:W3CDTF">2010-02-10T00:48:35Z</dcterms:modified>
  <cp:revision>61</cp:revision>
  <dc:subject/>
  <dc:title>Technology, kids and you</dc:title>
</cp:coreProperties>
</file>